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F25A2-2532-410A-8CFD-53E8B9625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A961A-B24B-4D40-8D23-DB91B581E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A6F8B-C019-4D39-A70E-C43CF01DC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F162B-3F1E-455E-A7A5-2A85474D3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5269A-C9FC-41BC-AE72-0639D1E40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A3AD6-A574-4A24-B3B1-87586B509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6DE0A-0BF7-48C2-9095-0A4B14F9E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6BDE3-AD51-4E0D-8B0F-337C35F25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0F743-3AE3-4DBF-8825-C25C0651B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42785-AB36-4132-880B-CD300678E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D1F87-9C81-4184-A8F2-1E835D408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33EAE-D12E-4313-A1CF-44C3631FF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2F80F-8695-4FA3-ACE1-DAEAA6250E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487480" y="0"/>
            <a:ext cx="1480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EJEMPL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800600" cy="41767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029200" y="609480"/>
            <a:ext cx="3581280" cy="297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0000"/>
                </a:solidFill>
                <a:latin typeface="Times New Roman"/>
              </a:rPr>
              <a:t>DAT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0000"/>
                </a:solidFill>
                <a:latin typeface="Times New Roman"/>
              </a:rPr>
              <a:t>Rosca cuadr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0000"/>
                </a:solidFill>
                <a:latin typeface="Times New Roman"/>
              </a:rPr>
              <a:t>6 hilos por pulg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0000"/>
                </a:solidFill>
                <a:latin typeface="Times New Roman"/>
              </a:rPr>
              <a:t>Doble entrada (rosca dob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0000"/>
                </a:solidFill>
                <a:latin typeface="Times New Roman"/>
              </a:rPr>
              <a:t>Diámtero mayor = 1 pulg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0000"/>
                </a:solidFill>
                <a:latin typeface="Symbol"/>
                <a:ea typeface="Symbol"/>
              </a:rPr>
              <a:t></a:t>
            </a:r>
            <a:r>
              <a:rPr b="0" i="1" lang="es-CL" sz="20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0" i="1" lang="es-CL" sz="2000" spc="-1" strike="noStrike">
                <a:solidFill>
                  <a:srgbClr val="ff0000"/>
                </a:solidFill>
                <a:latin typeface="Times New Roman"/>
              </a:rPr>
              <a:t>= </a:t>
            </a:r>
            <a:r>
              <a:rPr b="0" i="1" lang="es-CL" sz="2400" spc="-1" strike="noStrike">
                <a:solidFill>
                  <a:srgbClr val="ff0000"/>
                </a:solidFill>
                <a:latin typeface="Symbol"/>
                <a:ea typeface="Symbol"/>
              </a:rPr>
              <a:t></a:t>
            </a:r>
            <a:r>
              <a:rPr b="0" i="1" lang="es-CL" sz="2000" spc="-1" strike="noStrike" baseline="-25000">
                <a:solidFill>
                  <a:srgbClr val="ff0000"/>
                </a:solidFill>
                <a:latin typeface="Times New Roman"/>
              </a:rPr>
              <a:t>c</a:t>
            </a:r>
            <a:r>
              <a:rPr b="0" i="1" lang="es-CL" sz="2000" spc="-1" strike="noStrike">
                <a:solidFill>
                  <a:srgbClr val="ff0000"/>
                </a:solidFill>
                <a:latin typeface="Times New Roman"/>
              </a:rPr>
              <a:t> = 0.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i="1" lang="es-CL" sz="2000" spc="-1" strike="noStrike" baseline="-25000">
                <a:solidFill>
                  <a:srgbClr val="ff0000"/>
                </a:solidFill>
                <a:latin typeface="Times New Roman"/>
              </a:rPr>
              <a:t>c</a:t>
            </a:r>
            <a:r>
              <a:rPr b="0" i="1" lang="es-CL" sz="2000" spc="-1" strike="noStrike">
                <a:solidFill>
                  <a:srgbClr val="ff0000"/>
                </a:solidFill>
                <a:latin typeface="Times New Roman"/>
              </a:rPr>
              <a:t> = 1.25 pulgad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0000"/>
                </a:solidFill>
                <a:latin typeface="Times New Roman"/>
              </a:rPr>
              <a:t>F = 1500 lb por tornil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2133720" y="4572000"/>
            <a:ext cx="1904760" cy="16527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4724280"/>
            <a:ext cx="2148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Rosca cuadr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normalizad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495680" y="4267080"/>
            <a:ext cx="1295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s-CL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 = d 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715000" y="40384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4160" y="449568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715000" y="4495680"/>
            <a:ext cx="2286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19720" y="51055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p =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257800" y="48769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106960" y="533412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257800" y="5334120"/>
            <a:ext cx="2286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419720" y="64008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l = n p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95880" y="4267080"/>
            <a:ext cx="228600" cy="2590920"/>
          </a:xfrm>
          <a:custGeom>
            <a:avLst/>
            <a:gdLst>
              <a:gd name="textAreaLeft" fmla="*/ 0 w 228600"/>
              <a:gd name="textAreaRight" fmla="*/ 82440 w 228600"/>
              <a:gd name="textAreaTop" fmla="*/ 67320 h 2590920"/>
              <a:gd name="textAreaBottom" fmla="*/ 2523600 h 2590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495680" y="5791320"/>
            <a:ext cx="1524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s-CL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 = d - 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553080" y="4495680"/>
            <a:ext cx="2590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s-CL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 = 0.9167 pul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553080" y="5257800"/>
            <a:ext cx="2590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s-CL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 = 0.8333 pul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553080" y="594360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l = 0.333 pul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907280" y="1620720"/>
            <a:ext cx="7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T 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601000" y="1322280"/>
            <a:ext cx="787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F d</a:t>
            </a:r>
            <a:r>
              <a:rPr b="0" i="1" lang="es-CL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821320" y="1855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666880" y="1849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742920" y="1316160"/>
            <a:ext cx="1543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l + </a:t>
            </a:r>
            <a:r>
              <a:rPr b="0" i="1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 d</a:t>
            </a:r>
            <a:r>
              <a:rPr b="0" i="1" lang="es-CL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665880" y="1849320"/>
            <a:ext cx="1319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s-CL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i="1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 l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733920" y="184932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505320" y="1468440"/>
            <a:ext cx="75960" cy="762120"/>
          </a:xfrm>
          <a:custGeom>
            <a:avLst/>
            <a:gdLst>
              <a:gd name="textAreaLeft" fmla="*/ 22320 w 75960"/>
              <a:gd name="textAreaRight" fmla="*/ 76320 w 75960"/>
              <a:gd name="textAreaTop" fmla="*/ 31680 h 762120"/>
              <a:gd name="textAreaBottom" fmla="*/ 730440 h 76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05520" y="1468440"/>
            <a:ext cx="75960" cy="762120"/>
          </a:xfrm>
          <a:custGeom>
            <a:avLst/>
            <a:gdLst>
              <a:gd name="textAreaLeft" fmla="*/ 0 w 75960"/>
              <a:gd name="textAreaRight" fmla="*/ 53280 w 75960"/>
              <a:gd name="textAreaTop" fmla="*/ 31680 h 762120"/>
              <a:gd name="textAreaBottom" fmla="*/ 7304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83640" y="1627200"/>
            <a:ext cx="46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+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577120" y="1265400"/>
            <a:ext cx="1095120" cy="5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i="1" lang="es-CL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s-CL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 d</a:t>
            </a:r>
            <a:r>
              <a:rPr b="0" i="1" lang="es-CL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793120" y="1855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638680" y="1855800"/>
            <a:ext cx="9144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02760" y="762120"/>
            <a:ext cx="269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Par  contra la carga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11640" y="3581280"/>
            <a:ext cx="7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T 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44440" y="3352680"/>
            <a:ext cx="192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1500 · 0.9167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830600" y="39560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219320" y="3879720"/>
            <a:ext cx="1676160" cy="6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74920" y="3303720"/>
            <a:ext cx="298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0.33 + </a:t>
            </a:r>
            <a:r>
              <a:rPr b="0" i="1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  0.08 ·0.9167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201120" y="3836880"/>
            <a:ext cx="287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0.9167 - 0.08 ·0.33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48120" y="3505320"/>
            <a:ext cx="75960" cy="761760"/>
          </a:xfrm>
          <a:custGeom>
            <a:avLst/>
            <a:gdLst>
              <a:gd name="textAreaLeft" fmla="*/ 22320 w 75960"/>
              <a:gd name="textAreaRight" fmla="*/ 76320 w 75960"/>
              <a:gd name="textAreaTop" fmla="*/ 31680 h 761760"/>
              <a:gd name="textAreaBottom" fmla="*/ 730080 h 761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095880" y="3505320"/>
            <a:ext cx="76320" cy="761760"/>
          </a:xfrm>
          <a:custGeom>
            <a:avLst/>
            <a:gdLst>
              <a:gd name="textAreaLeft" fmla="*/ 0 w 76320"/>
              <a:gd name="textAreaRight" fmla="*/ 53640 w 76320"/>
              <a:gd name="textAreaTop" fmla="*/ 31680 h 761760"/>
              <a:gd name="textAreaBottom" fmla="*/ 730080 h 761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174000" y="3581280"/>
            <a:ext cx="46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+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554520" y="3200400"/>
            <a:ext cx="222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1500 ·0.08 ·1.25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469280" y="3733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668680" y="4876920"/>
            <a:ext cx="440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000000"/>
                </a:solidFill>
                <a:latin typeface="Times New Roman"/>
              </a:rPr>
              <a:t>T = 136 + 75 = 211 lb · pul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352680" y="3809880"/>
            <a:ext cx="2590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629400" y="378288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78000" y="1295280"/>
            <a:ext cx="312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Par  a favor de la carga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450080" y="2438280"/>
            <a:ext cx="7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T 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143800" y="2139840"/>
            <a:ext cx="787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F d</a:t>
            </a:r>
            <a:r>
              <a:rPr b="0" i="1" lang="es-CL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364120" y="2673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209680" y="26668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286440" y="2133720"/>
            <a:ext cx="1504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s-CL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 - 1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09400" y="2666880"/>
            <a:ext cx="1342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s-CL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 +</a:t>
            </a:r>
            <a:r>
              <a:rPr b="0" i="1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 l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048120" y="2286000"/>
            <a:ext cx="75960" cy="762120"/>
          </a:xfrm>
          <a:custGeom>
            <a:avLst/>
            <a:gdLst>
              <a:gd name="textAreaLeft" fmla="*/ 22320 w 75960"/>
              <a:gd name="textAreaRight" fmla="*/ 76320 w 75960"/>
              <a:gd name="textAreaTop" fmla="*/ 31680 h 762120"/>
              <a:gd name="textAreaBottom" fmla="*/ 730440 h 76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952880" y="2289240"/>
            <a:ext cx="76320" cy="761760"/>
          </a:xfrm>
          <a:custGeom>
            <a:avLst/>
            <a:gdLst>
              <a:gd name="textAreaLeft" fmla="*/ 0 w 76320"/>
              <a:gd name="textAreaRight" fmla="*/ 53640 w 76320"/>
              <a:gd name="textAreaTop" fmla="*/ 31680 h 761760"/>
              <a:gd name="textAreaBottom" fmla="*/ 730080 h 761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031000" y="2392200"/>
            <a:ext cx="46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+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424480" y="2030400"/>
            <a:ext cx="1095120" cy="5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i="1" lang="es-CL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s-CL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 d</a:t>
            </a:r>
            <a:r>
              <a:rPr b="0" i="1" lang="es-CL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640480" y="2620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86400" y="2620800"/>
            <a:ext cx="9144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83040" y="4032360"/>
            <a:ext cx="7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T 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897280" y="3657600"/>
            <a:ext cx="304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0.08 ·0.9167 - 0.333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896560" y="4267080"/>
            <a:ext cx="320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0.9167 + 0.08 · 0.333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971800" y="4267080"/>
            <a:ext cx="2971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819520" y="3809880"/>
            <a:ext cx="75960" cy="762120"/>
          </a:xfrm>
          <a:custGeom>
            <a:avLst/>
            <a:gdLst>
              <a:gd name="textAreaLeft" fmla="*/ 22320 w 75960"/>
              <a:gd name="textAreaRight" fmla="*/ 76320 w 75960"/>
              <a:gd name="textAreaTop" fmla="*/ 31680 h 762120"/>
              <a:gd name="textAreaBottom" fmla="*/ 730440 h 76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809880"/>
            <a:ext cx="76320" cy="762120"/>
          </a:xfrm>
          <a:custGeom>
            <a:avLst/>
            <a:gdLst>
              <a:gd name="textAreaLeft" fmla="*/ 0 w 76320"/>
              <a:gd name="textAreaRight" fmla="*/ 53640 w 76320"/>
              <a:gd name="textAreaTop" fmla="*/ 31680 h 762120"/>
              <a:gd name="textAreaBottom" fmla="*/ 7304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174000" y="3962520"/>
            <a:ext cx="46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+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52680" y="263988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15840" y="3733920"/>
            <a:ext cx="192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1500 · 0.9167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602000" y="4336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990720" y="4260960"/>
            <a:ext cx="1447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554520" y="3657600"/>
            <a:ext cx="222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1500 ·0.08 ·1.25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469280" y="4191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629400" y="424008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397240" y="5181480"/>
            <a:ext cx="456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000000"/>
                </a:solidFill>
                <a:latin typeface="Times New Roman"/>
              </a:rPr>
              <a:t>T = -24.4 + 75 </a:t>
            </a:r>
            <a:r>
              <a:rPr b="0" i="1" lang="es-CL" sz="2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i="1" lang="es-CL" sz="2800" spc="-1" strike="noStrike">
                <a:solidFill>
                  <a:srgbClr val="000000"/>
                </a:solidFill>
                <a:latin typeface="Times New Roman"/>
              </a:rPr>
              <a:t>  50 lb · pul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380520" y="1295280"/>
            <a:ext cx="159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Eficiencia: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887280" y="1882800"/>
            <a:ext cx="84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>
                <a:solidFill>
                  <a:srgbClr val="000000"/>
                </a:solidFill>
                <a:latin typeface="Times New Roman"/>
              </a:rPr>
              <a:t>e 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573080" y="1584360"/>
            <a:ext cx="644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>
                <a:solidFill>
                  <a:srgbClr val="000000"/>
                </a:solidFill>
                <a:latin typeface="Times New Roman"/>
              </a:rPr>
              <a:t>F 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495680" y="220968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s-CL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i="1" lang="es-CL" sz="3200" spc="-1" strike="noStrike">
                <a:solidFill>
                  <a:srgbClr val="000000"/>
                </a:solidFill>
                <a:latin typeface="Times New Roman"/>
              </a:rPr>
              <a:t> 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572000" y="2209680"/>
            <a:ext cx="5335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972880" y="3330720"/>
            <a:ext cx="84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>
                <a:solidFill>
                  <a:srgbClr val="000000"/>
                </a:solidFill>
                <a:latin typeface="Times New Roman"/>
              </a:rPr>
              <a:t>e 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654360" y="3032280"/>
            <a:ext cx="222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>
                <a:solidFill>
                  <a:srgbClr val="000000"/>
                </a:solidFill>
                <a:latin typeface="Times New Roman"/>
              </a:rPr>
              <a:t>1500 · 0.33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114800" y="3657600"/>
            <a:ext cx="16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s-CL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i="1" lang="es-CL" sz="3200" spc="-1" strike="noStrike">
                <a:solidFill>
                  <a:srgbClr val="000000"/>
                </a:solidFill>
                <a:latin typeface="Times New Roman"/>
              </a:rPr>
              <a:t> ·2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657600" y="365760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808800" y="4724280"/>
            <a:ext cx="209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>
                <a:solidFill>
                  <a:srgbClr val="000000"/>
                </a:solidFill>
                <a:latin typeface="Times New Roman"/>
              </a:rPr>
              <a:t>e = 37.7 %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5487480" y="0"/>
            <a:ext cx="1480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EJEMPL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333360"/>
            <a:ext cx="4238640" cy="286704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5724360" y="404640"/>
            <a:ext cx="2135520" cy="30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DAT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s-CL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 = 0 – 36 k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s-CL" sz="20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= 5/8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s-CL" sz="20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’ = 18.4 kp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s-CL" sz="20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 = 30 Mp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s-CL" sz="20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 = 12 Mp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n =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l = 1.5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179280" y="3716280"/>
                <a:ext cx="4392720" cy="18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A</m:t>
                            </m:r>
                            <m:r>
                              <m:t xml:space="preserve">⋅</m:t>
                            </m:r>
                            <m:r>
                              <m:t xml:space="preserve">E</m:t>
                            </m:r>
                          </m:num>
                          <m:den>
                            <m:r>
                              <m:t xml:space="preserve">l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t xml:space="preserve">πd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E</m:t>
                            </m:r>
                          </m:num>
                          <m:den>
                            <m:r>
                              <m:t xml:space="preserve">4</m:t>
                            </m:r>
                            <m:r>
                              <m:t xml:space="preserve">l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6</m:t>
                            </m:r>
                          </m:sup>
                        </m:sSup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b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km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π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E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f>
                              <m:num>
                                <m:r>
                                  <m:t xml:space="preserve">5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l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5</m:t>
                                </m:r>
                                <m:r>
                                  <m:t xml:space="preserve">d</m:t>
                                </m:r>
                                <m:r>
                                  <m:t xml:space="preserve">)</m:t>
                                </m:r>
                              </m:num>
                              <m:den>
                                <m:r>
                                  <m:t xml:space="preserve">l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2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5</m:t>
                                </m:r>
                                <m:r>
                                  <m:t xml:space="preserve">d</m:t>
                                </m:r>
                              </m:den>
                            </m:f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6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6</m:t>
                            </m:r>
                          </m:sup>
                        </m:sSup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b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5508720" y="4149720"/>
                <a:ext cx="2735280" cy="94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61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2627280" y="0"/>
                <a:ext cx="3543480" cy="558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r>
                          <m:t xml:space="preserve">C</m:t>
                        </m:r>
                        <m:f>
                          <m:num>
                            <m:r>
                              <m:t xml:space="preserve">P</m:t>
                            </m:r>
                          </m:num>
                          <m:den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CP</m:t>
                            </m:r>
                          </m:num>
                          <m:den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den>
                        </m:f>
                      </m:e>
                      <m:e>
                        <m:f>
                          <m:num>
                            <m:sSub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ut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ut</m:t>
                            </m:r>
                          </m:sub>
                        </m:sSub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CP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ut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t xml:space="preserve">e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e/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1979640" y="5445000"/>
                <a:ext cx="4757760" cy="8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26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15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61</m:t>
                        </m:r>
                        <m:r>
                          <m:t xml:space="preserve">⋅</m:t>
                        </m:r>
                        <m:r>
                          <m:t xml:space="preserve">3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N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1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8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4859280" y="2637000"/>
            <a:ext cx="28814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1523880" y="1397160"/>
            <a:ext cx="398484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2916360" y="549360"/>
                <a:ext cx="2519280" cy="83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4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3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7" name=""/>
          <p:cNvSpPr/>
          <p:nvPr/>
        </p:nvSpPr>
        <p:spPr>
          <a:xfrm>
            <a:off x="1959120" y="1938240"/>
            <a:ext cx="5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843280" y="1916280"/>
            <a:ext cx="5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427640" y="1916280"/>
            <a:ext cx="50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564000" y="1916280"/>
            <a:ext cx="50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076720" y="1916280"/>
            <a:ext cx="7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940360" y="1916280"/>
            <a:ext cx="7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908000" y="2492280"/>
            <a:ext cx="65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0000"/>
                </a:solidFill>
                <a:latin typeface="Times New Roman"/>
              </a:rPr>
              <a:t>F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627280" y="249228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0000"/>
                </a:solidFill>
                <a:latin typeface="Times New Roman"/>
              </a:rPr>
              <a:t>2.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2492280"/>
            <a:ext cx="12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0000"/>
                </a:solidFill>
                <a:latin typeface="Times New Roman"/>
              </a:rPr>
              <a:t>8.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140360" y="2492280"/>
            <a:ext cx="12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0000"/>
                </a:solidFill>
                <a:latin typeface="Times New Roman"/>
              </a:rPr>
              <a:t>10.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932360" y="249228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0000"/>
                </a:solidFill>
                <a:latin typeface="Times New Roman"/>
              </a:rPr>
              <a:t>11.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796000" y="249228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0000"/>
                </a:solidFill>
                <a:latin typeface="Times New Roman"/>
              </a:rPr>
              <a:t>14.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835280" y="2349360"/>
            <a:ext cx="475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484360" y="1916280"/>
            <a:ext cx="0" cy="93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3348000" y="3284640"/>
                <a:ext cx="2664000" cy="52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6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≤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9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53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2340000" y="4005360"/>
                <a:ext cx="1584360" cy="57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55" name=""/>
          <p:cNvSpPr/>
          <p:nvPr/>
        </p:nvSpPr>
        <p:spPr>
          <a:xfrm>
            <a:off x="0" y="3267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5148360" y="4005360"/>
                <a:ext cx="1834920" cy="57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65</m:t>
                    </m:r>
                    <m:r>
                      <m:rPr>
                        <m:lit/>
                        <m:nor/>
                      </m:rPr>
                      <m:t xml:space="preserve">kpsi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7" name="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4284720" y="4797360"/>
                <a:ext cx="3959280" cy="83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ín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6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6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9</m:t>
                        </m:r>
                        <m:r>
                          <m:t xml:space="preserve">=</m:t>
                        </m:r>
                        <m:r>
                          <m:t xml:space="preserve">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1</m:t>
                        </m:r>
                      </m:e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áx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9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9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9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0" name=""/>
              <p:cNvSpPr txBox="1"/>
              <p:nvPr/>
            </p:nvSpPr>
            <p:spPr>
              <a:xfrm>
                <a:off x="611280" y="5013360"/>
                <a:ext cx="288108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26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65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9</m:t>
                    </m:r>
                    <m:r>
                      <m:rPr>
                        <m:lit/>
                        <m:nor/>
                      </m:rPr>
                      <m:t xml:space="preserve">kip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1T13:18:49Z</dcterms:created>
  <dc:creator>Roberto Corvalán Paiva</dc:creator>
  <dc:description/>
  <dc:language>en-US</dc:language>
  <cp:lastModifiedBy>Roberto Corvalán Paiva</cp:lastModifiedBy>
  <dcterms:modified xsi:type="dcterms:W3CDTF">2002-08-21T13:59:08Z</dcterms:modified>
  <cp:revision>4</cp:revision>
  <dc:subject/>
  <dc:title>Diapositiva 1</dc:title>
</cp:coreProperties>
</file>